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398-7EE0-4817-8DBD-F5B14401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394-468E-45CD-B368-5F55FAFB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A04-C0A8-4B6C-805C-827547EC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93F-CC7C-4B4E-AED3-003BF060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686C-E98E-49F3-8885-B29E704B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2167-5562-41C0-BD21-11C87E7D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9F50-EBA7-4A4A-8278-44762870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3996-2EA8-4900-B659-AFE125AF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CEE9-D650-4A14-B965-D911B05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952F-FEF1-4BE2-81AB-F66BBB10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43E4-4545-43C8-A068-A2BD7C0D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AFF-4B64-4189-81DB-7210D258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79DC-D2D2-4A0B-A319-5703B3E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687B-EF02-48C6-A9AC-377DBBE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D51D-BC3D-40E8-A956-86D464D9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E5B7-25CC-42B8-9C03-0CC28534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EF27-4AA8-49EB-A3B7-565B1ACB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78D-0CC2-4E1E-8FBB-24F680F4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F67-CBC6-4797-91EF-465365EC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0D9-0ACC-4382-80B5-35A8EF5E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29F-DB0A-4FF9-9CBD-D7E0DF5F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B09-0BFB-42E7-B039-2CE33F5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B20-78A3-4DC8-A829-DE3C9B72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45D-2348-48BA-9382-530BF00C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53CF-0F0D-4D8F-9E46-ABED7C8D90A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C097-3B21-4286-965E-99D7E7DE945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haraohs and Pyramids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yramids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ramids are HUGE stone structures built out of sandst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ncient Egyptians were mummified they were put into their pyramids with everything they would need for the after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539800" cy="111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03840" y="228600"/>
            <a:ext cx="2540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ramids were built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tomb for the pharaohs in the afterlif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EVERYTHING the pharaohs owned were put into their pyramid when they died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is was done so the pharaohs could use their things in the afterlif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 was viewed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Y important in Ancient Egy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The pharaoh was viewed as the child of the RA (the SUN g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ent Egyptians w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LYTHEISTI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mean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y had MANY G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EAT PYRAM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biggest pyramid in Egypt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t was built for the Pharaoh KUF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ook 20 years to built the pyramid for this pharaoh, and 100,000 people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yramids had a huge impact on the way people made a living and the lives of the lower class in Ancient Egyptian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governmen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egan to reb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gainst forcing citizens to 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constructing these gigantic pyramid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aders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pper Egy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cided to get a new pharaoh, and based their capital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b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i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ld King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me to an end in 300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istory and Cultu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ent Egypti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ivilization was one of the longest in hist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ivilization began abo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,000 B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lasted unti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0 B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nyone figure out how long that wa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- 2,700 years LO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838080" cy="1841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4097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istory and Culture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continued . . .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are going to be focusing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cial world of Ancient Egy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ery clear cut and defin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cial system set up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cient Egy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ystem was set u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 the rich got richer and the poor got poor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3640" cy="2616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34320" y="838080"/>
            <a:ext cx="18795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haraohs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aoh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re rulers of Ancient Egy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Egyptian civilization was doing VERY WELL and was flourishing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re were many wars between villa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vent 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two largest villages, Upper and Lower Egypt joined together around 3,100 B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658880" cy="175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96080" y="5587920"/>
            <a:ext cx="1054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is time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FIRST pharaoh, MENES, came to ru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aoh wa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solute rul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mean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y controlled EVERY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overnment the pharaoh would decide how Egypt’s affairs would be run at all leve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aoh was the first in line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MOST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o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ne wa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Z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araoh also appointed govern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MARC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o would report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Z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pharaoh also appointed SC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members of the government or people who help high official positions w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POINTED DIRECTLY BY THE PHAR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nyone think of a reason why this might not be good?  What could a problem be with the pharaoh appointing all of the high level offici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304920"/>
            <a:ext cx="1701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aohs als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uld tax all goo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cient Egypt was consider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ssession of the pharao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haraoh could take whatever he wanted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whoever he wanted, INCLUDING OTHER PEOP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43800" y="609480"/>
            <a:ext cx="125748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araoh wanted and needed was received from the tax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es were also use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ed the pharaoh’s family and frie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tra (SURPL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of food went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er 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o they would get a chance to at least have a little to e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xes were paid for with goods and serv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GOLD because money did not exist y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600200" cy="13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01000" y="685800"/>
            <a:ext cx="736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ncient Egyptian Social Pyrami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968400"/>
            <a:ext cx="75438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3:02:14Z</dcterms:created>
  <dc:creator>Cecil County</dc:creator>
  <dc:description/>
  <dc:language>en-US</dc:language>
  <cp:lastModifiedBy>Cecil County</cp:lastModifiedBy>
  <cp:lastPrinted>2007-10-08T16:17:07Z</cp:lastPrinted>
  <dcterms:modified xsi:type="dcterms:W3CDTF">2007-10-08T17:28:05Z</dcterms:modified>
  <cp:revision>3</cp:revision>
  <dc:subject/>
  <dc:title>Pharaohs and Pyramids!</dc:title>
</cp:coreProperties>
</file>